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918400" cy="4389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19BA-8DD8-4D29-AA53-AEDEFF89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17557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10239480"/>
            <a:ext cx="2962764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25370280"/>
            <a:ext cx="2962764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629-8FBF-4E53-99E9-410F0D3E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17557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10239480"/>
            <a:ext cx="1445796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7120" y="10239480"/>
            <a:ext cx="1445796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25370280"/>
            <a:ext cx="1445796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7120" y="25370280"/>
            <a:ext cx="1445796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F06B-FE4A-47B1-8D14-904C8E0A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17557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10239480"/>
            <a:ext cx="954000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3280" y="10239480"/>
            <a:ext cx="954000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80640" y="10239480"/>
            <a:ext cx="954000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25370280"/>
            <a:ext cx="954000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3280" y="25370280"/>
            <a:ext cx="954000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80640" y="25370280"/>
            <a:ext cx="954000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628-523E-4B00-935C-23A7D0E3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17557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10239480"/>
            <a:ext cx="29627640" cy="28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8AA-D2FD-40AC-87A1-1D16AD20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17557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10239480"/>
            <a:ext cx="29627640" cy="28968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2CC0-0825-4475-8B63-178DA76A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17557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10239480"/>
            <a:ext cx="14457960" cy="28968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7120" y="10239480"/>
            <a:ext cx="14457960" cy="28968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B36D-57A7-4E1A-86D2-ACD5D4D0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17557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F22-5DF9-4A83-9D8B-13B3421A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1755720"/>
            <a:ext cx="29627640" cy="33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9CA-7757-403F-A6DA-E62251F8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17557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10239480"/>
            <a:ext cx="1445796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7120" y="10239480"/>
            <a:ext cx="14457960" cy="28968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25370280"/>
            <a:ext cx="1445796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4EE3-4B26-4C79-8DFD-29EB76CB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17557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10239480"/>
            <a:ext cx="14457960" cy="28968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7120" y="10239480"/>
            <a:ext cx="1445796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7120" y="25370280"/>
            <a:ext cx="1445796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BD4C-7217-4EF5-A305-78D01C92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17557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10239480"/>
            <a:ext cx="1445796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7120" y="10239480"/>
            <a:ext cx="1445796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25370280"/>
            <a:ext cx="29627640" cy="13817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7680"/>
                <a:tab algn="l" pos="8775720"/>
              </a:tabLst>
            </a:pP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74AB-96C0-413D-A954-ABB539DF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5920" y="1755720"/>
            <a:ext cx="296276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5920" y="10239480"/>
            <a:ext cx="29627640" cy="28968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4480" indent="-16444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7680"/>
                <a:tab algn="l" pos="877572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7680"/>
                <a:tab algn="l" pos="877572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7680"/>
                <a:tab algn="l" pos="877572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7680"/>
                <a:tab algn="l" pos="877572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  <a:p>
            <a:pPr lvl="4" marL="98740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7680"/>
                <a:tab algn="l" pos="877572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  <a:p>
            <a:pPr lvl="5" marL="98740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7680"/>
                <a:tab algn="l" pos="877572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  <a:p>
            <a:pPr lvl="6" marL="98740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7680"/>
                <a:tab algn="l" pos="877572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5920" y="40681080"/>
            <a:ext cx="7682040" cy="2336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lstStyle>
            <a:lvl1pPr indent="0">
              <a:buNone/>
              <a:tabLst>
                <a:tab algn="l" pos="0"/>
                <a:tab algn="l" pos="4387680"/>
                <a:tab algn="l" pos="8775720"/>
              </a:tabLst>
              <a:defRPr b="0" lang="en-US" sz="58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387680"/>
                <a:tab algn="l" pos="8775720"/>
              </a:tabLst>
            </a:pPr>
            <a:r>
              <a:rPr b="0" lang="en-US" sz="58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7120" y="40681080"/>
            <a:ext cx="10425240" cy="2336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1520" y="40681080"/>
            <a:ext cx="7682040" cy="2336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lstStyle>
            <a:lvl1pPr indent="0" algn="r">
              <a:buNone/>
              <a:tabLst>
                <a:tab algn="l" pos="0"/>
                <a:tab algn="l" pos="4387680"/>
                <a:tab algn="l" pos="8775720"/>
              </a:tabLst>
              <a:defRPr b="0" lang="en-US" sz="58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387680"/>
                <a:tab algn="l" pos="8775720"/>
              </a:tabLst>
            </a:pPr>
            <a:fld id="{04DFF406-03FC-4DF2-8AF0-AE3A7163883B}" type="slidenum">
              <a:rPr b="0" lang="en-US" sz="58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-7920" y="0"/>
            <a:ext cx="32926320" cy="7467480"/>
          </a:xfrm>
          <a:prstGeom prst="rect">
            <a:avLst/>
          </a:prstGeom>
          <a:solidFill>
            <a:srgbClr val="4f26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87680"/>
                <a:tab algn="l" pos="8775720"/>
              </a:tabLst>
            </a:pPr>
            <a:r>
              <a:rPr b="0" lang="en-US" sz="86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39493800"/>
            <a:ext cx="3291840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87680"/>
                <a:tab algn="l" pos="877572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3714840" y="4268880"/>
            <a:ext cx="2526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 font is Arial, Size is 44: Names of researche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partment, Schulich School of Medicine &amp; Dentistry,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ern University, London, ON, Can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2171880" y="1625760"/>
            <a:ext cx="28575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Title of Research Poster goes here. </a:t>
            </a:r>
            <a:br>
              <a:rPr sz="7500"/>
            </a:b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Type is Arial Bold 75pt.</a:t>
            </a: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7276480" y="1859040"/>
            <a:ext cx="3771720" cy="4008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SMD_VER_WHITE.eps"/>
          <p:cNvPicPr/>
          <p:nvPr/>
        </p:nvPicPr>
        <p:blipFill>
          <a:blip r:embed="rId2"/>
          <a:stretch/>
        </p:blipFill>
        <p:spPr>
          <a:xfrm>
            <a:off x="1700280" y="1860480"/>
            <a:ext cx="43956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9:57:56Z</dcterms:created>
  <dc:creator>Administrator</dc:creator>
  <dc:description/>
  <dc:language>en-US</dc:language>
  <cp:lastModifiedBy>Administrator</cp:lastModifiedBy>
  <dcterms:modified xsi:type="dcterms:W3CDTF">2016-09-26T19:22:44Z</dcterms:modified>
  <cp:revision>37</cp:revision>
  <dc:subject/>
  <dc:title>PowerPoint Presentation</dc:title>
</cp:coreProperties>
</file>